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1C3-57A0-4FF3-A660-6CA70381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3AE-C094-4229-A576-60B82F09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DD4-4FBF-4FFF-8526-A9A77F4B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B38-F7E2-4B4E-98BB-33B5B899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41D-2901-4404-BEE9-5BB30E5D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CA2-B10B-4156-8735-A58A507F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483-1CB5-4733-BDE4-DAF1AB71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815-9E0A-4F80-A6EA-742921BE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CBF-E0FD-40E9-88EC-A1997308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EFF-4094-4001-B89E-5687909D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256-7E16-4733-BF1A-5AD2ACDE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2D7-3CF3-4B1B-A05B-EDAAC92F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2853-D145-45F6-A910-72C5FA90D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Изменение имён прилагательных по числ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/Алгоритм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рочитай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йди имя прилагательное и имя существительное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предели число имени прилагательного по имени существитель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…вилось яр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…нце. Летний дож…ь быст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ся. З…лёные листья ве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…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лось яркое (ед.ч.) с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Летний (ед.ч.) дож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быстро закончился.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ные (мн.ч.) листья весело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93 упр.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 рассказ о маме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А.Есенин «Черё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сною расц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тки золотис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кудри з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роса медв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лзает по к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ею зелень п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яет в сер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ядом у протал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ве, между ко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ится маленький Серебряный ру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сившись ст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елень 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олнышк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 волной грем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тки об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крадчиво под кр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песенки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ся из-под сн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ал кусочек не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первый, самый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й, малень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ini_2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etuh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ntitled"/>
          <p:cNvPicPr/>
          <p:nvPr/>
        </p:nvPicPr>
        <p:blipFill>
          <a:blip r:embed="rId2"/>
          <a:stretch/>
        </p:blipFill>
        <p:spPr>
          <a:xfrm>
            <a:off x="4992840" y="1557360"/>
            <a:ext cx="36115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Изменение имен прилагательных по числ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, определи число имени прилагательного по числу имени существительного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.     Белый цветок - бел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ёплое море – тёплые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. Сладкий пирог – сладкие пи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яя лента – синие 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. Тёмный лес – тём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ая юбка – светлые 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.  Храбрый воин – храбры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ая песня – весёлые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10:42Z</dcterms:created>
  <dc:creator>-</dc:creator>
  <dc:description/>
  <dc:language>en-US</dc:language>
  <cp:lastModifiedBy>галка</cp:lastModifiedBy>
  <dcterms:modified xsi:type="dcterms:W3CDTF">2020-04-04T11:16:50Z</dcterms:modified>
  <cp:revision>9</cp:revision>
  <dc:subject/>
  <dc:title>Презентацию выполнил учитель начальных классов </dc:title>
</cp:coreProperties>
</file>